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A505-1F66-4F44-8F4C-97E51B7C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10BC-28F8-4A31-9016-13A9BD9A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AA0D-AB86-4387-8F0E-57CA7715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DF63-6644-4260-8110-E3076E49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6D73-2117-4F59-BDA6-2AF7FFE4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AFC0-798F-499A-A615-BAB40FE4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A6C-1903-4B68-B404-1BEBA5F4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5F0-5305-40EC-9EB2-EB7047D4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A475-D815-4B27-9DBF-70B8F035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811A-7CE1-4A5A-B4B9-F466606B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86EE-9B13-4893-ACE9-3D63E8B0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82D2-7F20-4A9D-BBC3-CAB09C18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AA0B-A693-410A-B252-17F526F21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41640" y="4444920"/>
            <a:ext cx="1260720" cy="1575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533520"/>
            <a:ext cx="79250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10000"/>
                </a:solidFill>
                <a:latin typeface="Arial"/>
              </a:rPr>
              <a:t>More than one way to dissect an anim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86080" y="2860560"/>
            <a:ext cx="61722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864"/>
                </a:solidFill>
                <a:latin typeface="Arial"/>
              </a:rPr>
              <a:t>Melissa Haen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5864"/>
                </a:solidFill>
                <a:latin typeface="Arial"/>
              </a:rPr>
              <a:t>ZFIN Scientific 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1522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ow are the hierarchical relationships between terms affected by stage assignm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3460680"/>
            <a:ext cx="397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hild must exist within the stage range of its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060880"/>
            <a:ext cx="398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child’s stage range must overlap or abut the stage range of its pa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38160" y="4508640"/>
            <a:ext cx="2648160" cy="459720"/>
            <a:chOff x="938160" y="4508640"/>
            <a:chExt cx="2648160" cy="459720"/>
          </a:xfrm>
        </p:grpSpPr>
        <p:graphicFrame>
          <p:nvGraphicFramePr>
            <p:cNvPr id="117" name=""/>
            <p:cNvGraphicFramePr/>
            <p:nvPr/>
          </p:nvGraphicFramePr>
          <p:xfrm>
            <a:off x="938160" y="4584960"/>
            <a:ext cx="360000" cy="341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38160" y="4584960"/>
                      <a:ext cx="360000" cy="341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9" name=""/>
            <p:cNvSpPr/>
            <p:nvPr/>
          </p:nvSpPr>
          <p:spPr>
            <a:xfrm>
              <a:off x="1238400" y="4508640"/>
              <a:ext cx="23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velops_fr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0" name=""/>
          <p:cNvGraphicFramePr/>
          <p:nvPr/>
        </p:nvGraphicFramePr>
        <p:xfrm>
          <a:off x="1316160" y="3125880"/>
          <a:ext cx="360360" cy="24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6160" y="3125880"/>
                    <a:ext cx="360360" cy="24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297080" y="2736720"/>
          <a:ext cx="36036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7080" y="2736720"/>
                    <a:ext cx="3603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1905120" y="2606760"/>
            <a:ext cx="121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_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71760" y="229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9720" y="3540240"/>
            <a:ext cx="34344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 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dbrain  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hombomere 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9000" y="1504800"/>
            <a:ext cx="3943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nglion  1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anial ganglion  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eminal ganglion  4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al ganglion  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6480" y="5432400"/>
            <a:ext cx="2861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plate  1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al tube 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al cord  4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64640" y="10684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37640" y="497664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s_f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59600" y="30988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3280" y="195120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iological intuition sugge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609480"/>
            <a:ext cx="74070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do we need CA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acilitate cross-species queries, for example, similar phenotypes or gene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help MODs build anatomy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better curation and 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omote better data-mining within and between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.e. species-specific anatomy, cellular and sub-cellular anatomy, processes, functions, stages,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528480"/>
            <a:ext cx="739152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ints of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 Are the relationships is_a, part_of, and develops_ from sufficient for our needs?  Develops_from has not yet been finalized in OBO-REL. What other relationships are requir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How should the MODs and/or CARO integrate the three ontological granularities of anatomy represented thus f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he human foundational model of anatomy (FMA) is a structural ontology which offers many advantages.  Can CARO integrate the functional, spatial, developmental, and staged anatomy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How many stage relationships are needed?  How should they be defined? How will they be used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 How organismally diverse should CARO 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 How deep should CARO be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23840" y="617076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NEED USE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76320"/>
            <a:ext cx="812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 organism databases (MODs) use anatomy ontologies for ann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9740" t="-381" r="0" b="66045"/>
          <a:stretch/>
        </p:blipFill>
        <p:spPr>
          <a:xfrm>
            <a:off x="457200" y="4800600"/>
            <a:ext cx="284940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05320" y="502920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x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forelimb bud and som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7480" y="6094440"/>
            <a:ext cx="238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ouzelstein et.al, 19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7560" y="2590920"/>
            <a:ext cx="2667240" cy="1992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05320" y="290520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x2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brain hindbrain boundary and pronephric 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8200" y="4233960"/>
            <a:ext cx="191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isse et.al, 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68800" y="4008600"/>
            <a:ext cx="425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gmentation stage: 20-25 somi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7920" cy="7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662040" y="1257480"/>
            <a:ext cx="2438280" cy="974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05320" y="1143000"/>
            <a:ext cx="51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ression in tracheal system, lateral cor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72400" y="190980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ges: 13-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10000" y="216684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eger et al., 1988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72400" y="5761080"/>
            <a:ext cx="221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tage: 29 so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34960" y="9129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89160" y="228456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braf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2720" y="4532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429000" y="1066680"/>
            <a:ext cx="5029200" cy="4800600"/>
            <a:chOff x="3429000" y="1066680"/>
            <a:chExt cx="5029200" cy="4800600"/>
          </a:xfrm>
        </p:grpSpPr>
        <p:sp>
          <p:nvSpPr>
            <p:cNvPr id="63" name=""/>
            <p:cNvSpPr/>
            <p:nvPr/>
          </p:nvSpPr>
          <p:spPr>
            <a:xfrm>
              <a:off x="6019920" y="1066680"/>
              <a:ext cx="2438280" cy="609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1447920"/>
              <a:ext cx="1905120" cy="609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05320" y="3276720"/>
              <a:ext cx="4038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72200" y="4952880"/>
              <a:ext cx="1828800" cy="609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14800" y="5334120"/>
              <a:ext cx="121932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581280"/>
              <a:ext cx="243828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87360" y="304920"/>
            <a:ext cx="7102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do MODs use anatomy ontologies vs. a simple constrained vocabul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38080" y="1447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tologies facilitate grouping of annota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16520" y="2133720"/>
            <a:ext cx="344376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indbr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hombome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510552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f MODs construct their anatomy ontologies using the same principles they will be better able to reason across spe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1280" y="3733920"/>
            <a:ext cx="506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brain without ontology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brain with ontology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152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developmental anatomy ontologies have multiple axes of class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8720" y="1066680"/>
            <a:ext cx="7244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Function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diovascular system, nervous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pat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ad, trunk, li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ment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doderm, germ ring, lens pla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ructur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ssue, organ, cell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mental staging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3048120"/>
            <a:ext cx="7864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s are often arranged spatially or by function for ease of browsing or edi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al terms are often lumped together for lack of a way to categoriz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ges are represented in a variety of ways. Terms can be children of superstages, stages can be integrated into each term, or stages can be assigned to terms from a separate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1720" y="6172200"/>
            <a:ext cx="59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w can CARO unify this organ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66348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relationships are being used in developmental anatomy ontologi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27160" y="2228760"/>
            <a:ext cx="687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s_a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lassification of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art_of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lassical anatomical par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evelops_from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one to one, one to many, or many to one relationship describing the temporal lineage of anatomical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152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MODs have built their anatomy ontologies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1127" t="7917" r="67713" b="27948"/>
          <a:stretch/>
        </p:blipFill>
        <p:spPr>
          <a:xfrm>
            <a:off x="152280" y="1828800"/>
            <a:ext cx="2635200" cy="395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2"/>
          <a:srcRect l="1043" t="7768" r="66670" b="7856"/>
          <a:stretch/>
        </p:blipFill>
        <p:spPr>
          <a:xfrm>
            <a:off x="6337440" y="1600200"/>
            <a:ext cx="2730240" cy="520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3"/>
          <a:srcRect l="1043" t="7741" r="60420" b="18573"/>
          <a:stretch/>
        </p:blipFill>
        <p:spPr>
          <a:xfrm>
            <a:off x="2913120" y="1828800"/>
            <a:ext cx="3259080" cy="4543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821880" y="137016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65440" y="1141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20480" y="1335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fruit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006560" y="1938240"/>
            <a:ext cx="3045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7620120" y="3657600"/>
            <a:ext cx="30456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266720" y="2633400"/>
            <a:ext cx="304920" cy="759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86200"/>
            <a:ext cx="91440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0520" y="2335320"/>
            <a:ext cx="9144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4495680"/>
            <a:ext cx="1447920" cy="3049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8560" y="228600"/>
            <a:ext cx="808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different levels of anatomical gran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83808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ross-species subcellular anatomy (GO 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8380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ross-species cellular anatomy (C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84960" y="838080"/>
            <a:ext cx="230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pecies-specific gross anatomy (ZF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1249" t="26627" r="73126" b="43512"/>
          <a:stretch/>
        </p:blipFill>
        <p:spPr>
          <a:xfrm>
            <a:off x="316080" y="1981080"/>
            <a:ext cx="2503440" cy="350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rcRect l="11249" t="26450" r="69412" b="41985"/>
          <a:stretch/>
        </p:blipFill>
        <p:spPr>
          <a:xfrm>
            <a:off x="3137040" y="1941480"/>
            <a:ext cx="2898720" cy="346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rcRect l="11249" t="26450" r="72503" b="38575"/>
          <a:stretch/>
        </p:blipFill>
        <p:spPr>
          <a:xfrm>
            <a:off x="6276960" y="1981080"/>
            <a:ext cx="251136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991080" y="6095880"/>
            <a:ext cx="714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n CARO integrate these anatomy ontolo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9880" y="32767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s may have defining morphological characteristics or be fiat in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8240" y="380880"/>
            <a:ext cx="57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are developmental st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3046320" cy="5067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57200" y="640080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fter Haeckel, from Romanes, 190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1430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different staging series for different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http://zfin.org/zf_info/images/high_res_sketches/09h.gif"/>
          <p:cNvPicPr/>
          <p:nvPr/>
        </p:nvPicPr>
        <p:blipFill>
          <a:blip r:embed="rId2"/>
          <a:stretch/>
        </p:blipFill>
        <p:spPr>
          <a:xfrm>
            <a:off x="5362560" y="4448160"/>
            <a:ext cx="1647720" cy="1647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267800" y="6172200"/>
            <a:ext cx="38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Zebrafish bud stage; 10 – 10.3 hp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20968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ge represents a period of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380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can stages be represented in a developmental anatomy ontolog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61960" y="1676520"/>
            <a:ext cx="260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A (1-2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B (2-3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tage C (3-4 h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3352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anatomical structure has a stage range during which it ex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3480" y="4535640"/>
            <a:ext cx="463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tomical structure X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s during stag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pparent until stag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21:11:51Z</dcterms:created>
  <dc:creator>Community Network</dc:creator>
  <dc:description/>
  <dc:language>en-US</dc:language>
  <cp:lastModifiedBy>zfin user</cp:lastModifiedBy>
  <dcterms:modified xsi:type="dcterms:W3CDTF">2006-09-08T15:31:11Z</dcterms:modified>
  <cp:revision>47</cp:revision>
  <dc:subject/>
  <dc:title>PowerPoint Presentation</dc:title>
</cp:coreProperties>
</file>